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00D-0F05-4705-8CB8-D58E1E16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43D-24FE-4F21-A4F8-CD833BB2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6DD-B115-4922-871F-93114C56F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899-FE7B-4C40-B949-82E2C7AE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1D4-E612-4877-9C97-8852F86D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F31-454A-4465-B222-AD7C6A96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442-5160-457A-9F85-80761360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56D8-E758-4580-AD15-C3F0F106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8BE-32B9-4C78-AEB7-F82FFCA0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6CD-2008-46B4-87E8-06CDACDA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0BC-A172-43A8-9D7F-63D92159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DCE-0170-4167-AB13-082942F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992F-C50C-488F-9B84-3BDC9CD23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lkankult.org/" TargetMode="External"/><Relationship Id="rId3" Type="http://schemas.openxmlformats.org/officeDocument/2006/relationships/hyperlink" Target="http://www.balkankult.org/" TargetMode="External"/><Relationship Id="rId4" Type="http://schemas.openxmlformats.org/officeDocument/2006/relationships/hyperlink" Target="mailto:projects@balkankult.org" TargetMode="Externa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1728720" cy="114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Balkankult Fondacija je osnovana 1999. god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0000"/>
                </a:solidFill>
                <a:latin typeface="Arial"/>
              </a:rPr>
              <a:t>Prva je fondacija regionalnog i međunarodnog karaktera na Balkan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0000"/>
                </a:solidFill>
                <a:latin typeface="Arial"/>
              </a:rPr>
              <a:t>Glavne aktivnosti s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razvoj kreativnih potencijala Srbije i regiona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mobilnosti umetnika i kulturnih praktičara, ideja i 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decentralizacija kulturne produkcije i distribuc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podrška kulturnom diverzite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unapređivanje regionalne i međuregionalne kulturne sarad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razvoj kreativnih industr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proširivanje kulturnog tržiš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saradnja sa socijalno odgovornim korporacij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unapređenje međunarodne kulturne sarad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***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ff0000"/>
                </a:solidFill>
                <a:latin typeface="Arial"/>
              </a:rPr>
              <a:t>Adresa</a:t>
            </a: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: Beograd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 Nemanjina 4/V, tel/fax: 3621760;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3621763;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ovi Sad, </a:t>
            </a: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Đorđa Jovanovića 9, tel/fax: 553830; </a:t>
            </a:r>
            <a:r>
              <a:rPr b="0" lang="sr-Latn-CS" sz="1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www.balkankult.or</a:t>
            </a:r>
            <a:r>
              <a:rPr b="0" lang="en-US" sz="10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g</a:t>
            </a: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ff5050"/>
                </a:solidFill>
                <a:uFillTx/>
                <a:latin typeface="Arial"/>
                <a:hlinkClick r:id="rId4"/>
              </a:rPr>
              <a:t>projects@balkankult.org</a:t>
            </a:r>
            <a:r>
              <a:rPr b="0" lang="sr-Latn-CS" sz="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a6500"/>
                </a:solidFill>
                <a:latin typeface="Arial"/>
              </a:rPr>
              <a:t>Budž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Balkankult fondacija (uz podršku donatora produkcije) pokriva sve troškove produkcije: autorska prava, umnožavanje DVD, prevod i titlovanje, produkciju TV emisija, izradu fotografija, štampanje promotivnih materijala, koordinacija (ukopan iznos troškova produkcije dosadašnjih program iznosi oko 70.000 evr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Troškovi distribucije nisu pokriveni. Kulturne institucije partneri snose samo troškove fizičke manipulacije (oko između 50 i 100 evra po jednom program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a6500"/>
                </a:solidFill>
                <a:uFillTx/>
                <a:latin typeface="Arial"/>
              </a:rPr>
              <a:t>Projekat</a:t>
            </a:r>
            <a:r>
              <a:rPr b="0" lang="sr-Latn-CS" sz="2400" spc="-1" strike="noStrike" u="sng">
                <a:solidFill>
                  <a:srgbClr val="fa6500"/>
                </a:solidFill>
                <a:uFillTx/>
                <a:latin typeface="Arial"/>
              </a:rPr>
              <a:t> – </a:t>
            </a:r>
            <a:r>
              <a:rPr b="1" lang="sr-Latn-CS" sz="2400" spc="-1" strike="noStrike" u="sng">
                <a:solidFill>
                  <a:srgbClr val="fa6500"/>
                </a:solidFill>
                <a:uFillTx/>
                <a:latin typeface="Arial"/>
              </a:rPr>
              <a:t>PROTIV KULTURNE DOSADE</a:t>
            </a:r>
            <a:br>
              <a:rPr sz="2400"/>
            </a:br>
            <a:r>
              <a:rPr b="0" lang="sr-Latn-CS" sz="2400" spc="-1" strike="noStrike">
                <a:solidFill>
                  <a:srgbClr val="fa6500"/>
                </a:solidFill>
                <a:latin typeface="Arial"/>
              </a:rPr>
              <a:t>Kulturni život u manjim sredi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Ciljevi projek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Unapređenje kulturnog života u malim sredin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Podrška razvoju kreativnog potencijala, posebno onog koji živi u manjim mest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Decentralizacija produkcije i pristupačnosti kvalitetnih kulturnih sadržaja građanima manjim sredinama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Širenje imidža kompanije donatora kao prijatelja k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Mesto realizacije:</a:t>
            </a:r>
            <a:r>
              <a:rPr b="0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Srb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Partneri u realizaciji :</a:t>
            </a:r>
            <a:r>
              <a:rPr b="0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Domovi kulture, kulturni centri, muzeji i galerije u Beogradu, Nišu i Novom Sadu i u više od 30 manjih gradova širom Srb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Programi:</a:t>
            </a:r>
            <a:r>
              <a:rPr b="0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Preko 40 međunarodnih programa iz oblasti: filma, vizuelnih umetnosti, fotografije, etnografije, literature, muzike i dizajna (lista program se stalno dopunjuj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Institucije koje su do sada pomogle produkciju: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Nordijski ministarski savet; Ambasade nordijskih država; Ambasada SAD; Ambasada Holandije; Ambasada Meksika; Filmkontak Nord; Privredna komora islanda; Umetnički savet laponije; Asocijacija “Progeto musica”; Ministarstvo kulture Srbije; Ministarstvo inostranih poslova Srbije; Kompanija Actavis/Zdravlje; Kompanija Carlsberg; Kompanija AltecFermin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OPIS PROJEK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Razvoj kulturnog života u malim sredinama koje nemaju sredstva i mogućnosti za organizovanjem međunarodnih kulturnih događaj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Međunarodna kulturna saradnja je veoma skupa – od troškova autorksih prava, prevoda, koordinacije, prevoza, do štampanih materijala. Svi ti troškovi ne mogu biti isplativi ako se program organizuje samo za jedno prikazivan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Ovakav pristup kulturnim programima, posebno međunarodnim, ujedno znači i efikasno i racionalno trošenje sredstava. Za lokalnu sredinu ovo je jedinstveno povoljna prilika da se uključe u međunarodnu kulturnu saradnju i obogate kulturni život u svojoj sredi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Ovaj  projekat direktno podstiče razradu novog modela kulture. Taj novi model kulturne politike ogleda se, pre svega, u procesu decentralizacije produkcije i pristupačnosti kvalitetnih kulturnih sadržaja građanima manjim sredinama</a:t>
            </a:r>
            <a:r>
              <a:rPr b="0" lang="sl-SI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fa6500"/>
                </a:solidFill>
                <a:uFillTx/>
                <a:latin typeface="Arial"/>
              </a:rPr>
              <a:t>ZNAČAJ PROJEKTA</a:t>
            </a:r>
            <a:r>
              <a:rPr b="1" lang="sl-SI" sz="2000" spc="-1" strike="noStrike">
                <a:solidFill>
                  <a:srgbClr val="fa65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KLJUČNE REČI:</a:t>
            </a:r>
            <a:r>
              <a:rPr b="0" lang="sl-SI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Kulturni život, mladi, kreativni potencijal, lokalna sredina, partnerstvo 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privrede i kulture, efikasnost, međunarodna kulturna sarad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CILJNA GRUPA POSETIL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Ponuđeni programi su posebno atraktivni za mlađu populaciju i imaju izuzetno visok umetnički nivo i predstavljaju rezultat međuregionalne i međunarodne saradnje Balkankulta sa partnerima iz inostranstva. Lista programa koji se nude </a:t>
            </a:r>
            <a:r>
              <a:rPr b="1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stalno se proširuje novim sadržajima</a:t>
            </a:r>
            <a:r>
              <a:rPr b="1" lang="sl-SI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 u="sng">
                <a:solidFill>
                  <a:srgbClr val="ff0000"/>
                </a:solidFill>
                <a:uFillTx/>
                <a:latin typeface="Arial"/>
              </a:rPr>
              <a:t>PARTERI U REALIZACIJ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Arial"/>
              </a:rPr>
              <a:t>Realizacija programa započeta je 2005. i nastavila se tokom 2006, 2007, 2008. i 2009. godine. Interesovanje za programe nadmašilo je sve očekivanja.  Trajna saradnja je uspostavljena sa kulturnim institucijama iz</a:t>
            </a: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: Novog Sada, Niša, Zaječara, Aleksinca, Gornjeg Milanovca, Sopota, Zrenjanina, Smedereva, Aranđelovca, Čačka, Subotice, Lazarevca, Sremske Mitrovice, Trstenika, Gračanice, Zvečana, Lazarevca, Obrenovca, Sombora, Beočina, Mladenovca </a:t>
            </a:r>
            <a:r>
              <a:rPr b="1" lang="sr-Latn-CS" sz="1200" spc="-1" strike="noStrike">
                <a:solidFill>
                  <a:srgbClr val="fa65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a6500"/>
                </a:solidFill>
                <a:latin typeface="Arial"/>
              </a:rPr>
              <a:t>UČEŠĆE DONA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ff0000"/>
                </a:solidFill>
                <a:uFillTx/>
                <a:latin typeface="Arial"/>
              </a:rPr>
              <a:t>TELEKOM SOCIJALNO ODGOVORNA KORPORA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Širenje  afirmacije (imidža) donatora podrškom održivom razvoju društva u celini, posebno malih sre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Donator kao uzorni “korporacijski građanin” koji razvija poslovnu politiku u kojoj su profitabilnost, održivi razvoj i humani progres osnovni indikatori njenog poslovnog uspe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Latn-CS" sz="1200" spc="-1" strike="noStrike" u="sng">
                <a:solidFill>
                  <a:srgbClr val="ff0000"/>
                </a:solidFill>
                <a:uFillTx/>
                <a:latin typeface="Arial"/>
              </a:rPr>
              <a:t>lan učešća kompanije, kao i PR zajednički bi razradili saradnici Fondacije  i donatora</a:t>
            </a: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 u="sng">
                <a:solidFill>
                  <a:srgbClr val="ff0000"/>
                </a:solidFill>
                <a:uFillTx/>
                <a:latin typeface="Arial"/>
              </a:rPr>
              <a:t>BIZ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Na konkursu Ministarstva kulture Srbije za najuspešnije povezivanje kulture i biznisa u 2006. godini Balkankult je izabran među pet najboljih (drugo mesto).</a:t>
            </a:r>
            <a:r>
              <a:rPr b="0" lang="sr-Latn-C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a6500"/>
                </a:solidFill>
                <a:uFillTx/>
                <a:latin typeface="Arial"/>
              </a:rPr>
              <a:t>Press konfer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2190960" cy="316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76720" y="1052640"/>
            <a:ext cx="4824360" cy="268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187720" cy="251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55640" y="3933720"/>
            <a:ext cx="3956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a6500"/>
                </a:solidFill>
                <a:latin typeface="Arial"/>
              </a:rPr>
              <a:t>POZADINA PROJEKTA</a:t>
            </a:r>
            <a:br>
              <a:rPr sz="2000"/>
            </a:br>
            <a:r>
              <a:rPr b="1" i="1" lang="sl-SI" sz="1600" spc="-1" strike="noStrike" u="sng">
                <a:solidFill>
                  <a:srgbClr val="fa6500"/>
                </a:solidFill>
                <a:uFillTx/>
                <a:latin typeface="Arial"/>
              </a:rPr>
              <a:t>REZULTATI ISTRAŽIVANJA POTREBA MLADIH U 17 MANJIH GRADOVA SRB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OCENA VAŽNOSTI PROBLEMA MLADIH U LOKALNIM SREDINA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ff0000"/>
                </a:solidFill>
                <a:latin typeface="Arial"/>
              </a:rPr>
              <a:t>PROBLEM                                                                                 ARITMETIČKA SREDINA</a:t>
            </a: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Nezaposlenost                                                                                 4,7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Narkomanija                                                                                     4,49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Nedostatak kulturnih dešavanja za mlade                                   4,3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Alkoholizam                                                                                     4,3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Nedostatak podrške mladima od strane lokalne samouprave          4,2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Delikvencija i kriminal4,20 Nemogućnost dodatnog obrazovanja     4,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Malobrojne i/ili neadekvatne mogućnosti za zabavu                  4,10</a:t>
            </a: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Siromašna ponuda sportskih i rekreativnih aktivnosti                      3,8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ŠTA TREBA PROMENITI DA BI VEĆINA MLADIH OSTALA I BILA SREĆ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Više mogućnosti za zaposlenje, nova radna mesta                          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Više kulturnih i sportskih sadržaja                                               32%</a:t>
            </a:r>
            <a:r>
              <a:rPr b="1" lang="sl-SI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Bolja ponuda mesta za izlazak                                                      21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Veći standard, bolja ekonomska situacija                                        21 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fa6500"/>
                </a:solidFill>
                <a:uFillTx/>
                <a:latin typeface="Arial"/>
              </a:rPr>
              <a:t>Programi</a:t>
            </a:r>
            <a:br>
              <a:rPr sz="2000"/>
            </a:br>
            <a:r>
              <a:rPr b="1" lang="sl-SI" sz="1600" spc="-1" strike="noStrike">
                <a:solidFill>
                  <a:srgbClr val="fa6500"/>
                </a:solidFill>
                <a:latin typeface="Arial"/>
              </a:rPr>
              <a:t>Preko 30 međunarodnih programa iz oblasti: filma, vizuelnih umetnosti, fotografije, etnografije, literature, muzike i dizajna (lista program se stalno dopunjuje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5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0000"/>
                </a:solidFill>
                <a:latin typeface="Arial"/>
              </a:rPr>
              <a:t>PROGRAMI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5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5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 u="sng">
                <a:solidFill>
                  <a:srgbClr val="ff0000"/>
                </a:solidFill>
                <a:uFillTx/>
                <a:latin typeface="Arial"/>
              </a:rPr>
              <a:t>Izlož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Radovi I Trijenala balkanskog ex librisa - TRIBEL I (tema - Most simbol saradnj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5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Radovi II Trijenala balkanskog Ex librisa – TRIBEL II (tema  - Hleb, kulturna baštin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Izložba 13 grafika našin najeminetnijih likovnih stvarala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Dizajna njujorškog studija KarsonWil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Grafike balkanskih umetnika učesnika kolonije “Grafička radionica”,200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Grafiea umetnika učesnika međunarodne kolonije “Grafička radionica”,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čuvenog islandskog fotografa Akselonsa Raxa</a:t>
            </a:r>
            <a:r>
              <a:rPr b="0" i="1" lang="sv-SE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– Zemlja ponoćnog sunca - Laponija</a:t>
            </a:r>
            <a:r>
              <a:rPr b="0" lang="sv-SE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svetskog fotografa Jaka Heikile</a:t>
            </a:r>
            <a:r>
              <a:rPr b="0" lang="sv-SE" sz="1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Žaklin Hener – Moja Srbi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Ruski  i sovjetski plak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Reprodukcije ulja na platnu mekskičkih umetnica - Omaž Fridi K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Aleksandra Kelića – Srbija, nezavršena i nedovršena prič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Izložba – Civilizacija hleba i piva – drevni Egip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Izložba – Rimsko antičko nasleđe Vojvodine – kulturni kontinuit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otografije i objekti umetnika Rajnharda Dubrave – Balkanski dnevn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 u="sng">
                <a:solidFill>
                  <a:srgbClr val="ff0000"/>
                </a:solidFill>
                <a:uFillTx/>
                <a:latin typeface="Arial"/>
              </a:rPr>
              <a:t>Filmski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Program kratkih filmova sa Balkana -Neizbež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Programi najboljih kratkih, dokumentarnih i animiranih filmova nordijskog regiona – Nordijska panorama 2004/2005/2006/2008/2009.</a:t>
            </a:r>
            <a:r>
              <a:rPr b="0" i="1" lang="sr-Latn-CS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Islandski igrani i dokumentarni filmo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Danski igrani i dokumentarni filmo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Holandski igrani i dokumentarni filmo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Laponski dokumentarni filmo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Filmovi Njujorške škole animac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0000"/>
                </a:solidFill>
                <a:latin typeface="Arial"/>
              </a:rPr>
              <a:t>Norveški dokumentari i animirani filmo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5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ff0000"/>
                </a:solidFill>
                <a:latin typeface="Arial"/>
              </a:rPr>
              <a:t>(Lista program se stalno dopunjuj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a6500"/>
                </a:solidFill>
                <a:uFillTx/>
                <a:latin typeface="Arial"/>
              </a:rPr>
              <a:t>Plakati i bilbord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2746440" cy="374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419640" y="1628640"/>
            <a:ext cx="2522520" cy="3657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084720" y="1628640"/>
            <a:ext cx="24195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0:49:37Z</dcterms:created>
  <dc:creator>Dimitrije</dc:creator>
  <dc:description/>
  <dc:language>en-US</dc:language>
  <cp:lastModifiedBy>User</cp:lastModifiedBy>
  <dcterms:modified xsi:type="dcterms:W3CDTF">2009-12-27T18:20:51Z</dcterms:modified>
  <cp:revision>39</cp:revision>
  <dc:subject/>
  <dc:title>Slide 1</dc:title>
</cp:coreProperties>
</file>